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CF0-0EFF-42CE-98C6-B4AF2C35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A84-F653-4D47-ACFE-1872865C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0D8-509A-4F80-AEFD-4F956DD9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0CD-3166-44A3-952E-3E9EA485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0B3-A3BB-40E1-8C26-E03656AC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918-932B-4340-91CB-39986350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587-B0F9-4D8C-8C76-ED9E59C2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12B-468A-413A-980C-5767DB00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CA3-23B2-4C72-AA8C-4BC5828D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ADF-BD69-46B3-B0C1-CDA0AEFE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6BD-7E6C-42BC-B273-D393FA2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8C9-CFC0-400D-83E0-B5CD2B64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2348-3266-400A-A6D5-600DEB7289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09720" y="3286080"/>
            <a:ext cx="5572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8004240" cy="101268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3"/>
          <a:stretch/>
        </p:blipFill>
        <p:spPr>
          <a:xfrm>
            <a:off x="798480" y="208440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12" descr=""/>
          <p:cNvPicPr/>
          <p:nvPr/>
        </p:nvPicPr>
        <p:blipFill>
          <a:blip r:embed="rId4"/>
          <a:stretch/>
        </p:blipFill>
        <p:spPr>
          <a:xfrm>
            <a:off x="5791320" y="2193840"/>
            <a:ext cx="283500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5"/>
          <a:stretch/>
        </p:blipFill>
        <p:spPr>
          <a:xfrm>
            <a:off x="1328760" y="2133720"/>
            <a:ext cx="6407280" cy="53640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6"/>
          <a:stretch/>
        </p:blipFill>
        <p:spPr>
          <a:xfrm>
            <a:off x="1249200" y="2597040"/>
            <a:ext cx="6492960" cy="54288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7"/>
          <a:stretch/>
        </p:blipFill>
        <p:spPr>
          <a:xfrm>
            <a:off x="1311120" y="3060720"/>
            <a:ext cx="3625920" cy="53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8"/>
          <a:stretch/>
        </p:blipFill>
        <p:spPr>
          <a:xfrm>
            <a:off x="5470560" y="3605040"/>
            <a:ext cx="3062160" cy="23036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9"/>
          <a:stretch/>
        </p:blipFill>
        <p:spPr>
          <a:xfrm>
            <a:off x="1371600" y="3859200"/>
            <a:ext cx="2193840" cy="185256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10"/>
          <a:stretch/>
        </p:blipFill>
        <p:spPr>
          <a:xfrm>
            <a:off x="3328920" y="4803840"/>
            <a:ext cx="112716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4" descr=""/>
          <p:cNvPicPr/>
          <p:nvPr/>
        </p:nvPicPr>
        <p:blipFill>
          <a:blip r:embed="rId2"/>
          <a:stretch/>
        </p:blipFill>
        <p:spPr>
          <a:xfrm>
            <a:off x="689040" y="1054080"/>
            <a:ext cx="7845480" cy="174456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3"/>
          <a:stretch/>
        </p:blipFill>
        <p:spPr>
          <a:xfrm>
            <a:off x="798480" y="277344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4"/>
          <a:stretch/>
        </p:blipFill>
        <p:spPr>
          <a:xfrm>
            <a:off x="1298520" y="4608360"/>
            <a:ext cx="2266920" cy="5130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5"/>
          <a:stretch/>
        </p:blipFill>
        <p:spPr>
          <a:xfrm>
            <a:off x="1212840" y="2773440"/>
            <a:ext cx="7254720" cy="10126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6"/>
          <a:stretch/>
        </p:blipFill>
        <p:spPr>
          <a:xfrm>
            <a:off x="4286160" y="4237200"/>
            <a:ext cx="2187720" cy="185256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7"/>
          <a:stretch/>
        </p:blipFill>
        <p:spPr>
          <a:xfrm>
            <a:off x="6199200" y="5175360"/>
            <a:ext cx="112860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8"/>
          <a:stretch/>
        </p:blipFill>
        <p:spPr>
          <a:xfrm>
            <a:off x="1219320" y="3621240"/>
            <a:ext cx="72594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2" descr=""/>
          <p:cNvPicPr/>
          <p:nvPr/>
        </p:nvPicPr>
        <p:blipFill>
          <a:blip r:embed="rId2"/>
          <a:stretch/>
        </p:blipFill>
        <p:spPr>
          <a:xfrm>
            <a:off x="1371600" y="1109520"/>
            <a:ext cx="6151680" cy="77976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3"/>
          <a:stretch/>
        </p:blipFill>
        <p:spPr>
          <a:xfrm>
            <a:off x="1212840" y="3127320"/>
            <a:ext cx="1968480" cy="64620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4"/>
          <a:stretch/>
        </p:blipFill>
        <p:spPr>
          <a:xfrm>
            <a:off x="1365120" y="3638520"/>
            <a:ext cx="3597480" cy="18241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5"/>
          <a:stretch/>
        </p:blipFill>
        <p:spPr>
          <a:xfrm>
            <a:off x="3389400" y="1847880"/>
            <a:ext cx="1584360" cy="785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6"/>
          <a:stretch/>
        </p:blipFill>
        <p:spPr>
          <a:xfrm>
            <a:off x="4078440" y="2498760"/>
            <a:ext cx="1584000" cy="78084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7"/>
          <a:stretch/>
        </p:blipFill>
        <p:spPr>
          <a:xfrm>
            <a:off x="1298520" y="5662440"/>
            <a:ext cx="309096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217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57200" y="2322360"/>
            <a:ext cx="94464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7964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401840" y="2139840"/>
            <a:ext cx="6181560" cy="9208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1" descr=""/>
          <p:cNvPicPr/>
          <p:nvPr/>
        </p:nvPicPr>
        <p:blipFill>
          <a:blip r:embed="rId5"/>
          <a:stretch/>
        </p:blipFill>
        <p:spPr>
          <a:xfrm>
            <a:off x="6022800" y="2120760"/>
            <a:ext cx="2524320" cy="1146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07920" y="3303720"/>
            <a:ext cx="3865680" cy="7506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895320" y="4048200"/>
            <a:ext cx="38592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480960" y="2840040"/>
            <a:ext cx="6469200" cy="6951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4" descr=""/>
          <p:cNvPicPr/>
          <p:nvPr/>
        </p:nvPicPr>
        <p:blipFill>
          <a:blip r:embed="rId3"/>
          <a:stretch/>
        </p:blipFill>
        <p:spPr>
          <a:xfrm>
            <a:off x="682560" y="1085760"/>
            <a:ext cx="785196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10" descr=""/>
          <p:cNvPicPr/>
          <p:nvPr/>
        </p:nvPicPr>
        <p:blipFill>
          <a:blip r:embed="rId4"/>
          <a:stretch/>
        </p:blipFill>
        <p:spPr>
          <a:xfrm>
            <a:off x="6138720" y="4767120"/>
            <a:ext cx="2760840" cy="7383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480960" y="4475160"/>
            <a:ext cx="5523120" cy="1839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1170000" y="3571920"/>
            <a:ext cx="65530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506520" y="981000"/>
            <a:ext cx="5522760" cy="1847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1542960" y="3114720"/>
            <a:ext cx="6345360" cy="6159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1298520" y="3859200"/>
            <a:ext cx="64375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23840"/>
            <a:ext cx="7851960" cy="13780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3"/>
          <a:stretch/>
        </p:blipFill>
        <p:spPr>
          <a:xfrm>
            <a:off x="480960" y="2511360"/>
            <a:ext cx="6469200" cy="6955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15" descr=""/>
          <p:cNvPicPr/>
          <p:nvPr/>
        </p:nvPicPr>
        <p:blipFill>
          <a:blip r:embed="rId4"/>
          <a:stretch/>
        </p:blipFill>
        <p:spPr>
          <a:xfrm>
            <a:off x="5937120" y="2494080"/>
            <a:ext cx="2762280" cy="8395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5"/>
          <a:stretch/>
        </p:blipFill>
        <p:spPr>
          <a:xfrm>
            <a:off x="1371600" y="3243240"/>
            <a:ext cx="6181560" cy="9208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6"/>
          <a:stretch/>
        </p:blipFill>
        <p:spPr>
          <a:xfrm>
            <a:off x="3975120" y="4187880"/>
            <a:ext cx="2023920" cy="9205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7"/>
          <a:stretch/>
        </p:blipFill>
        <p:spPr>
          <a:xfrm>
            <a:off x="1200240" y="5175360"/>
            <a:ext cx="35733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2" descr=""/>
          <p:cNvPicPr/>
          <p:nvPr/>
        </p:nvPicPr>
        <p:blipFill>
          <a:blip r:embed="rId2"/>
          <a:stretch/>
        </p:blipFill>
        <p:spPr>
          <a:xfrm>
            <a:off x="487440" y="2060640"/>
            <a:ext cx="552276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3"/>
          <a:stretch/>
        </p:blipFill>
        <p:spPr>
          <a:xfrm>
            <a:off x="1328760" y="3475080"/>
            <a:ext cx="6419880" cy="4683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4"/>
          <a:stretch/>
        </p:blipFill>
        <p:spPr>
          <a:xfrm>
            <a:off x="1182600" y="1079640"/>
            <a:ext cx="6553440" cy="101124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5" descr=""/>
          <p:cNvPicPr/>
          <p:nvPr/>
        </p:nvPicPr>
        <p:blipFill>
          <a:blip r:embed="rId5"/>
          <a:stretch/>
        </p:blipFill>
        <p:spPr>
          <a:xfrm>
            <a:off x="5943600" y="2030400"/>
            <a:ext cx="27622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2" descr=""/>
          <p:cNvPicPr/>
          <p:nvPr/>
        </p:nvPicPr>
        <p:blipFill>
          <a:blip r:embed="rId2"/>
          <a:stretch/>
        </p:blipFill>
        <p:spPr>
          <a:xfrm>
            <a:off x="469800" y="1682640"/>
            <a:ext cx="5529240" cy="13780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4" descr=""/>
          <p:cNvPicPr/>
          <p:nvPr/>
        </p:nvPicPr>
        <p:blipFill>
          <a:blip r:embed="rId3"/>
          <a:stretch/>
        </p:blipFill>
        <p:spPr>
          <a:xfrm>
            <a:off x="682560" y="1054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4"/>
          <a:stretch/>
        </p:blipFill>
        <p:spPr>
          <a:xfrm>
            <a:off x="1401840" y="2809800"/>
            <a:ext cx="7345440" cy="11034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11" descr=""/>
          <p:cNvPicPr/>
          <p:nvPr/>
        </p:nvPicPr>
        <p:blipFill>
          <a:blip r:embed="rId5"/>
          <a:stretch/>
        </p:blipFill>
        <p:spPr>
          <a:xfrm>
            <a:off x="5797440" y="1762200"/>
            <a:ext cx="2749680" cy="104148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6"/>
          <a:stretch/>
        </p:blipFill>
        <p:spPr>
          <a:xfrm>
            <a:off x="2097000" y="4857840"/>
            <a:ext cx="4627800" cy="64116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7"/>
          <a:stretch/>
        </p:blipFill>
        <p:spPr>
          <a:xfrm>
            <a:off x="1274760" y="5699160"/>
            <a:ext cx="7448400" cy="5428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8"/>
          <a:stretch/>
        </p:blipFill>
        <p:spPr>
          <a:xfrm>
            <a:off x="2103480" y="4017960"/>
            <a:ext cx="3797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52:20Z</dcterms:modified>
  <cp:revision>18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